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3B7E9-3C5F-45F2-820E-56D5AEA25D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804F-706F-4D8A-9DB7-564BF4AB40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48E4-9298-4FD2-BCE9-18686E1159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D5A9-5D02-4361-9F39-AADE4ADEFF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7638A-DD9F-40D2-B462-124EFE867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66DA5-A009-4CCC-8283-66660678A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797F2-7FB8-4A7D-8C77-A12956980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1AC61-41BB-45EF-A64C-24B89501E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82494-14CB-41AF-A68C-1F76F876C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0059D-058E-415F-A01D-AD6670816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F304F-8663-427C-B22B-FF6A27462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05BEC-0F38-40A9-992D-3ED78D350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20D2C-0D1C-4F7C-AF86-753B16840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7B414-9B0A-4E38-AD0C-5F00AA5AA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85300-CC8C-45C7-9773-2D1AC9A07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857A4-7E69-4FA5-844B-76B33CA31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EDE5-E7FD-4F97-AD95-2302982263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25884" t="6920" r="4787" b="15255"/>
          <a:stretch/>
        </p:blipFill>
        <p:spPr>
          <a:xfrm>
            <a:off x="0" y="0"/>
            <a:ext cx="9144000" cy="6858000"/>
          </a:xfrm>
          <a:prstGeom prst="rect">
            <a:avLst/>
          </a:prstGeom>
          <a:ln w="0">
            <a:noFill/>
          </a:ln>
        </p:spPr>
      </p:pic>
      <p:sp>
        <p:nvSpPr>
          <p:cNvPr id="49" name="PlaceHolder 1"/>
          <p:cNvSpPr>
            <a:spLocks noGrp="1"/>
          </p:cNvSpPr>
          <p:nvPr>
            <p:ph type="title"/>
          </p:nvPr>
        </p:nvSpPr>
        <p:spPr>
          <a:xfrm>
            <a:off x="1447560" y="838080"/>
            <a:ext cx="739116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alkDust"/>
              </a:rPr>
              <a:t>Rich Dad, Poor Dad</a:t>
            </a:r>
            <a:br>
              <a:rPr sz="6600"/>
            </a:br>
            <a:br>
              <a:rPr sz="6600"/>
            </a:br>
            <a:r>
              <a:rPr b="0" lang="en-US" sz="6600" spc="-1" strike="noStrike">
                <a:solidFill>
                  <a:srgbClr val="ffffff"/>
                </a:solidFill>
                <a:latin typeface="ChalkDust"/>
              </a:rPr>
              <a:t>Chapter 7</a:t>
            </a:r>
            <a:endParaRPr b="0" lang="en-US" sz="6600" spc="-1" strike="noStrike">
              <a:solidFill>
                <a:srgbClr val="000000"/>
              </a:solidFill>
              <a:latin typeface="Calibri"/>
            </a:endParaRPr>
          </a:p>
        </p:txBody>
      </p:sp>
      <p:sp>
        <p:nvSpPr>
          <p:cNvPr id="50" name="PlaceHolder 2"/>
          <p:cNvSpPr>
            <a:spLocks noGrp="1"/>
          </p:cNvSpPr>
          <p:nvPr>
            <p:ph type="subTitle"/>
          </p:nvPr>
        </p:nvSpPr>
        <p:spPr>
          <a:xfrm>
            <a:off x="3276360" y="3505320"/>
            <a:ext cx="56386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rought to you by </a:t>
            </a:r>
            <a:r>
              <a:rPr b="1" lang="en-US" sz="3200" spc="-1" strike="noStrike">
                <a:solidFill>
                  <a:srgbClr val="ffffff"/>
                </a:solidFill>
                <a:latin typeface="Calibri"/>
              </a:rPr>
              <a:t>Group  8</a:t>
            </a:r>
            <a:r>
              <a:rPr b="0" lang="en-US" sz="3200" spc="-1" strike="noStrike">
                <a:solidFill>
                  <a:srgbClr val="ffffff"/>
                </a:solidFill>
                <a:latin typeface="Calibri"/>
              </a:rPr>
              <a: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onathan Q., Juanita 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ose S., and Sumit P.</a:t>
            </a:r>
            <a:endParaRPr b="0" lang="en-US" sz="3200" spc="-1" strike="noStrike">
              <a:solidFill>
                <a:srgbClr val="000000"/>
              </a:solidFill>
              <a:latin typeface="Calibri"/>
            </a:endParaRPr>
          </a:p>
        </p:txBody>
      </p:sp>
      <p:sp>
        <p:nvSpPr>
          <p:cNvPr id="51" name="TextBox 7"/>
          <p:cNvSpPr/>
          <p:nvPr/>
        </p:nvSpPr>
        <p:spPr>
          <a:xfrm>
            <a:off x="4428720" y="1143000"/>
            <a:ext cx="374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Dust"/>
              </a:rPr>
              <a:t>By: Robert T. Kiyosak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ls </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Once people are trapped in the lifelong process of bill paying, they become like those little hamsters running around in those little metal wheels. Their little furry legs are spinning furiously, the wheel is turning furiously, but come tomorrow morning, they'll still be in the same cage: great job.” - Narrat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In the movie Jerry Maguire, starring Tom Cruise, there are many great one liners. Probably the most memorable is "Show me the money." But there is one line I thought most truthful. It comes from the scene where Tom Cruise is leaving the firm. He has just been fired, and he is asking the entire company "Who wants to come with me?" And the whole place is silent and frozen. Only one woman speaks up and says, "I'd like to but I'm due for a promotion in three months.”” - Narrat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That statement is probably the most truthful statement in the whole movie. It is the type of statement that people use to keep themselves  busy working away to pay bills.” - Narrator</a:t>
            </a:r>
            <a:endParaRPr b="0" lang="en-US" sz="1600" spc="-1" strike="noStrike">
              <a:solidFill>
                <a:srgbClr val="000000"/>
              </a:solidFill>
              <a:latin typeface="Calibri"/>
            </a:endParaRPr>
          </a:p>
        </p:txBody>
      </p:sp>
      <p:pic>
        <p:nvPicPr>
          <p:cNvPr id="73" name="Picture 2" descr="C:\users\Sumit\Documents\School - I.T.H.S\Grade 12 Semester 2\Economics\Rich Dad, Poor Dad\Images\Sad Face.JPG"/>
          <p:cNvPicPr/>
          <p:nvPr/>
        </p:nvPicPr>
        <p:blipFill>
          <a:blip r:embed="rId1"/>
          <a:stretch/>
        </p:blipFill>
        <p:spPr>
          <a:xfrm>
            <a:off x="7391520" y="304920"/>
            <a:ext cx="1028520" cy="1038240"/>
          </a:xfrm>
          <a:prstGeom prst="rect">
            <a:avLst/>
          </a:prstGeom>
          <a:ln w="0">
            <a:noFill/>
          </a:ln>
        </p:spPr>
      </p:pic>
      <p:pic>
        <p:nvPicPr>
          <p:cNvPr id="74" name="Picture 2" descr="C:\users\Sumit\Documents\School - I.T.H.S\Grade 12 Semester 2\Economics\Rich Dad, Poor Dad\Images\Sad Face.JPG"/>
          <p:cNvPicPr/>
          <p:nvPr/>
        </p:nvPicPr>
        <p:blipFill>
          <a:blip r:embed="rId2"/>
          <a:stretch/>
        </p:blipFill>
        <p:spPr>
          <a:xfrm>
            <a:off x="380880" y="380880"/>
            <a:ext cx="1028880" cy="103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d? You decide.</a:t>
            </a:r>
            <a:endParaRPr b="0" lang="en-US" sz="4400" spc="-1" strike="noStrike">
              <a:solidFill>
                <a:srgbClr val="000000"/>
              </a:solidFill>
              <a:latin typeface="Calibri"/>
            </a:endParaRPr>
          </a:p>
        </p:txBody>
      </p:sp>
      <p:sp>
        <p:nvSpPr>
          <p:cNvPr id="76" name=""/>
          <p:cNvSpPr txBox="1"/>
          <p:nvPr/>
        </p:nvSpPr>
        <p:spPr>
          <a:xfrm>
            <a:off x="457200" y="1294920"/>
            <a:ext cx="8229600" cy="5257800"/>
          </a:xfrm>
          <a:prstGeom prst="rect">
            <a:avLst/>
          </a:prstGeom>
          <a:noFill/>
          <a:ln w="0">
            <a:noFill/>
          </a:ln>
        </p:spPr>
        <p:txBody>
          <a:bodyPr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addition to being good learners, sellers and marketers, we need to be good teachers as well as good student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o be truly rich, we need to be able to give as well as to receiv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cases of financial or professional struggle, there is often a lack of giving and receiving.</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re are many people who are poor because they are neither good students nor good teachers.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narrator actually develops into both dads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One part of me is a hard-core capitalist who loves the game of money making money.” - Narrat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The other side is a socially responsible teacher who is deeply concerned with this ever-widening gap between the haves and have nots.” - Narrat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7" name="Picture 2" descr=""/>
          <p:cNvPicPr/>
          <p:nvPr/>
        </p:nvPicPr>
        <p:blipFill>
          <a:blip r:embed="rId1"/>
          <a:stretch/>
        </p:blipFill>
        <p:spPr>
          <a:xfrm>
            <a:off x="3200400" y="2971800"/>
            <a:ext cx="2371680" cy="178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513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rry! You don’t have a choice.</a:t>
            </a:r>
            <a:br>
              <a:rPr sz="4400"/>
            </a:br>
            <a:br>
              <a:rPr sz="4400"/>
            </a:br>
            <a:br>
              <a:rPr sz="4400"/>
            </a:br>
            <a:r>
              <a:rPr b="0" lang="en-US" sz="4400" spc="-1" strike="noStrike">
                <a:solidFill>
                  <a:srgbClr val="000000"/>
                </a:solidFill>
                <a:latin typeface="Times New Roman"/>
                <a:ea typeface="Times New Roman"/>
              </a:rPr>
              <a:t>The End.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bsites:</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http://www.ibrc.indiana.edu/IBR/2002/summer02/summer02_images/learn_fig1.gi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http://news-libraries.mit.edu/blog/wp-content/uploads/2007/11/book_sale.jpg</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http://www.ennex.com/~POOFF/image/poof.gif</a:t>
            </a:r>
            <a:endParaRPr b="0" lang="en-US" sz="1200" spc="-1" strike="noStrike">
              <a:solidFill>
                <a:srgbClr val="000000"/>
              </a:solidFill>
              <a:latin typeface="Calibri"/>
            </a:endParaRPr>
          </a:p>
        </p:txBody>
      </p:sp>
      <p:pic>
        <p:nvPicPr>
          <p:cNvPr id="81" name="Picture 2" descr=""/>
          <p:cNvPicPr/>
          <p:nvPr/>
        </p:nvPicPr>
        <p:blipFill>
          <a:blip r:embed="rId1"/>
          <a:srcRect l="7143" t="9135" r="44052" b="32076"/>
          <a:stretch/>
        </p:blipFill>
        <p:spPr>
          <a:xfrm>
            <a:off x="6399360" y="4648320"/>
            <a:ext cx="274464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Rectangle 4" descr=""/>
          <p:cNvPicPr/>
          <p:nvPr/>
        </p:nvPicPr>
        <p:blipFill>
          <a:blip r:embed="rId1"/>
          <a:stretch/>
        </p:blipFill>
        <p:spPr>
          <a:xfrm>
            <a:off x="835200" y="0"/>
            <a:ext cx="7632360" cy="1603440"/>
          </a:xfrm>
          <a:prstGeom prst="rect">
            <a:avLst/>
          </a:prstGeom>
          <a:ln w="0">
            <a:noFill/>
          </a:ln>
        </p:spPr>
      </p:pic>
      <p:pic>
        <p:nvPicPr>
          <p:cNvPr id="53" name="Picture 2" descr="C:\users\Sumit\Documents\School - I.T.H.S\Grade 12 Semester 2\Economics\Rich Dad, Poor Dad\Images\Degree - Earning.JPG"/>
          <p:cNvPicPr/>
          <p:nvPr/>
        </p:nvPicPr>
        <p:blipFill>
          <a:blip r:embed="rId2"/>
          <a:stretch/>
        </p:blipFill>
        <p:spPr>
          <a:xfrm>
            <a:off x="1066680" y="1690560"/>
            <a:ext cx="6705720" cy="487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295280" y="30456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haracters</a:t>
            </a:r>
            <a:endParaRPr b="0" lang="en-US" sz="4400" spc="-1" strike="noStrike">
              <a:solidFill>
                <a:srgbClr val="000000"/>
              </a:solidFill>
              <a:latin typeface="Calibri"/>
            </a:endParaRPr>
          </a:p>
        </p:txBody>
      </p:sp>
      <p:sp>
        <p:nvSpPr>
          <p:cNvPr id="55" name=""/>
          <p:cNvSpPr txBox="1"/>
          <p:nvPr/>
        </p:nvSpPr>
        <p:spPr>
          <a:xfrm>
            <a:off x="1066680" y="1447920"/>
            <a:ext cx="601992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rrator (Male)</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porter (Female)</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ich Dad</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or 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The Hotel</a:t>
            </a:r>
            <a:endParaRPr b="0" lang="en-US" sz="4400" spc="-1" strike="noStrike">
              <a:solidFill>
                <a:srgbClr val="000000"/>
              </a:solidFill>
              <a:latin typeface="Calibri"/>
            </a:endParaRPr>
          </a:p>
        </p:txBody>
      </p:sp>
      <p:sp>
        <p:nvSpPr>
          <p:cNvPr id="57" name=""/>
          <p:cNvSpPr txBox="1"/>
          <p:nvPr/>
        </p:nvSpPr>
        <p:spPr>
          <a:xfrm>
            <a:off x="457200" y="1600200"/>
            <a:ext cx="8229600" cy="5029200"/>
          </a:xfrm>
          <a:prstGeom prst="rect">
            <a:avLst/>
          </a:prstGeom>
          <a:noFill/>
          <a:ln w="0">
            <a:noFill/>
          </a:ln>
        </p:spPr>
        <p:txBody>
          <a:bodyPr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young reporter approaches the narrator for an interview regarding her career as a “Bes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elling” auth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reporter has a Masters Degree in English Literature, but her writing seems to go nowher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porter to Narrator: “Someday, I would like to be a best-selling author like you”</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narrator has read some of the reporter’s work. It’s better than his own. Therefore, the narrator suggests that the reporter should take classes in salesmanship</a:t>
            </a:r>
            <a:endParaRPr b="0" lang="en-US" sz="16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Best-selling author vs. Best-writing author”</a:t>
            </a:r>
            <a:endParaRPr b="0" lang="en-US" sz="32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a state of anger the reporter gets up an leaves; she was offende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Calibri"/>
              </a:rPr>
              <a:t>Anger flared from her eyes. "I'll never stoop so low as to learn how to sell. People like you hav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business writing. I am a professionally trained writer and you are a salesman. It is not fair. </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ar Broke Down!</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ne day he pulled into garage because his car wasn’t running well and a young mechanic had fixed it just a few minut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young man knew what was wrong by listening to the engin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The world is filled with smart, talented, educated and gift people. </a:t>
            </a:r>
            <a:endParaRPr b="0" lang="en-US" sz="16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e meet them every day. They are all around us.” - Narrator</a:t>
            </a:r>
            <a:endParaRPr b="0" lang="en-US" sz="16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sad truth is, great talent is not enough.” - Narrator</a:t>
            </a:r>
            <a:endParaRPr b="0" lang="en-US" sz="16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 was shocked at how little talented people ear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
            </a:r>
            <a:r>
              <a:rPr b="0" lang="en-US" sz="1600" spc="-1" strike="noStrike">
                <a:solidFill>
                  <a:srgbClr val="000000"/>
                </a:solidFill>
                <a:latin typeface="Calibri"/>
              </a:rPr>
              <a:t>Less than 5 percent of American earn more than 100,000 a year”, “brilliant, highly educated people who earn less than $20,000 a year.” “They are one skill away from great wealth.”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Meaning: </a:t>
            </a:r>
            <a:r>
              <a:rPr b="0" lang="en-US" sz="1600" spc="-1" strike="noStrike">
                <a:solidFill>
                  <a:srgbClr val="000000"/>
                </a:solidFill>
                <a:latin typeface="Times New Roman"/>
                <a:ea typeface="Times New Roman"/>
              </a:rPr>
              <a:t>“M</a:t>
            </a:r>
            <a:r>
              <a:rPr b="0" lang="en-US" sz="1600" spc="-1" strike="noStrike">
                <a:solidFill>
                  <a:srgbClr val="000000"/>
                </a:solidFill>
                <a:latin typeface="Calibri"/>
              </a:rPr>
              <a:t>ost people need only to learn and master one more skill and their income would jump exponentially.</a:t>
            </a:r>
            <a:r>
              <a:rPr b="1"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kill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I have mentioned before that financial intelligence is a synergy of accounting, investing, marketing and law. Combine those four technical skills and making money with money is easier. When it comes to money, the only skill most people know is to work hard”</a:t>
            </a:r>
            <a:endParaRPr b="0" lang="en-US" sz="3600" spc="-1" strike="noStrike">
              <a:solidFill>
                <a:srgbClr val="000000"/>
              </a:solidFill>
              <a:latin typeface="Calibri"/>
            </a:endParaRPr>
          </a:p>
          <a:p>
            <a:pPr marL="332640" indent="-3326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Narrat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0880" y="1447560"/>
            <a:ext cx="8229600" cy="5181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rrator’s Original Book Nam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If You Want To Be Rich and Happy,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n't Go to School?”</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rrator’s Edited Book Name: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The Economics of Education.”</a:t>
            </a:r>
            <a:endParaRPr b="0" lang="en-US" sz="3200" spc="-1" strike="noStrike">
              <a:solidFill>
                <a:srgbClr val="000000"/>
              </a:solidFill>
              <a:latin typeface="Calibri"/>
            </a:endParaRPr>
          </a:p>
        </p:txBody>
      </p:sp>
      <p:sp>
        <p:nvSpPr>
          <p:cNvPr id="63" name="TextBox 3"/>
          <p:cNvSpPr/>
          <p:nvPr/>
        </p:nvSpPr>
        <p:spPr>
          <a:xfrm>
            <a:off x="1371600" y="312840"/>
            <a:ext cx="4419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Writing a Book</a:t>
            </a:r>
            <a:endParaRPr b="0" lang="en-US" sz="4800" spc="-1" strike="noStrike">
              <a:solidFill>
                <a:srgbClr val="000000"/>
              </a:solidFill>
              <a:latin typeface="Calibri"/>
            </a:endParaRPr>
          </a:p>
        </p:txBody>
      </p:sp>
      <p:pic>
        <p:nvPicPr>
          <p:cNvPr id="64" name="Picture 2" descr=""/>
          <p:cNvPicPr/>
          <p:nvPr/>
        </p:nvPicPr>
        <p:blipFill>
          <a:blip r:embed="rId1"/>
          <a:stretch/>
        </p:blipFill>
        <p:spPr>
          <a:xfrm>
            <a:off x="6629400" y="0"/>
            <a:ext cx="2514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ch Dad vs. Poor Dad</a:t>
            </a:r>
            <a:endParaRPr b="0" lang="en-US" sz="4400" spc="-1" strike="noStrike">
              <a:solidFill>
                <a:srgbClr val="000000"/>
              </a:solidFill>
              <a:latin typeface="Calibri"/>
            </a:endParaRPr>
          </a:p>
        </p:txBody>
      </p:sp>
      <p:sp>
        <p:nvSpPr>
          <p:cNvPr id="66" name=""/>
          <p:cNvSpPr txBox="1"/>
          <p:nvPr/>
        </p:nvSpPr>
        <p:spPr>
          <a:xfrm>
            <a:off x="457200" y="1600200"/>
            <a:ext cx="8229600" cy="5029200"/>
          </a:xfrm>
          <a:prstGeom prst="rect">
            <a:avLst/>
          </a:prstGeom>
          <a:noFill/>
          <a:ln w="0">
            <a:noFill/>
          </a:ln>
        </p:spPr>
        <p:txBody>
          <a:bodyPr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or dad believed that in order to make more money or get promoted, you need to “specializ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ich dad believed in the opposite: “You want to know a little about a lo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narrator decided to take the advice of the Rich dad.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or dad thought the narrator went to school to learn how to work on a ship. However, he went to explore “emerging” nations in Asi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narrator studied culture and business in multiple countries including Japan, Taiwan, and Kore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fter learning from these experiences, the narrator quits school to join the marine corp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or dad preferred a secure and stable job, but rich dad encouraged taking risk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ich dad states that the hardest part of running a company is managing peopl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ich dad told  the narra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adership is what you need to learn nex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f you're not a good leader, you'll get shot in the back, just like they do in busines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narrator decided to join the marines to become a strong lead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or Dad - Ashamed</a:t>
            </a:r>
            <a:endParaRPr b="0" lang="en-US" sz="4400" spc="-1" strike="noStrike">
              <a:solidFill>
                <a:srgbClr val="000000"/>
              </a:solidFill>
              <a:latin typeface="Calibri"/>
            </a:endParaRPr>
          </a:p>
        </p:txBody>
      </p:sp>
      <p:sp>
        <p:nvSpPr>
          <p:cNvPr id="68"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fter returning from the Marines, the narrator begins to work as a Xerox salesman</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or dad was devastated, while rich dad is proud of everything the narrator had learned</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narrator formed his first company in 1977. And his first product was the nylon and velcro walle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ich dad advised that it was best to go broke before 30. He encouraged taking the risk of selling a produc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ou still have time to recover“ – Rich Dad</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oday the narrator continues to participate in international business, especially in the presence of emerging market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Sad Fact: </a:t>
            </a:r>
            <a:r>
              <a:rPr b="0" lang="en-US" sz="1600" spc="-1" strike="noStrike">
                <a:solidFill>
                  <a:srgbClr val="000000"/>
                </a:solidFill>
                <a:latin typeface="Times New Roman"/>
                <a:ea typeface="Times New Roman"/>
              </a:rPr>
              <a:t>“Workers work hard enough to not be fired, and owners pay just enough so th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orkers won't quit.” – Narrator </a:t>
            </a:r>
            <a:endParaRPr b="0" lang="en-US" sz="16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The net result is that most workers never get ahead. ”– Narrator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69" name="Picture 2" descr="C:\users\Sumit\Documents\School - I.T.H.S\Grade 12 Semester 2\Economics\Rich Dad, Poor Dad\Images\Sad Face.JPG"/>
          <p:cNvPicPr/>
          <p:nvPr/>
        </p:nvPicPr>
        <p:blipFill>
          <a:blip r:embed="rId1"/>
          <a:stretch/>
        </p:blipFill>
        <p:spPr>
          <a:xfrm>
            <a:off x="7315200" y="380880"/>
            <a:ext cx="1028880" cy="1038240"/>
          </a:xfrm>
          <a:prstGeom prst="rect">
            <a:avLst/>
          </a:prstGeom>
          <a:ln w="0">
            <a:noFill/>
          </a:ln>
        </p:spPr>
      </p:pic>
      <p:sp>
        <p:nvSpPr>
          <p:cNvPr id="70" name="TextBox 4"/>
          <p:cNvSpPr/>
          <p:nvPr/>
        </p:nvSpPr>
        <p:spPr>
          <a:xfrm>
            <a:off x="3657600" y="23623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ich 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15:05:13Z</dcterms:created>
  <dc:creator>Sumit</dc:creator>
  <dc:description/>
  <dc:language>en-US</dc:language>
  <cp:lastModifiedBy>Sumit</cp:lastModifiedBy>
  <dcterms:modified xsi:type="dcterms:W3CDTF">2009-03-25T14:52:00Z</dcterms:modified>
  <cp:revision>29</cp:revision>
  <dc:subject/>
  <dc:title>Rich Dad, Poor Dad Chapter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35021033</vt:lpwstr>
  </property>
</Properties>
</file>